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78C1-76F8-4AD0-9678-32A825567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de 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sas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EB0-0EE4-4E5D-A0F7-62DB66EE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86A-719B-4508-B4F0-14B602D7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D17-B395-4527-8534-C91FEFA6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9F1-01C8-4192-A0C3-7465A13D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FF8-9208-4636-BC50-933BA64D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06B2-9C71-47C4-81BD-BA748D4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5A2F-8126-464B-BCC9-BDFE499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009-4A6E-4214-8440-5E2888F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7E3E-E824-4CAD-AFE6-0AD74276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B433-6AF4-4E0D-A227-14D6D90E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50CE-6AF2-481C-AC8E-7413834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ABF-844E-4636-96A3-4BB5A0BF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1E5-C3AE-4F4A-A0B6-C8EA6E7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7D8-F69A-40C4-AA37-0E829FE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BA57-7B62-46FA-A82A-B3169D2D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C944-CB33-4994-AA9B-C943726D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F6D5-47CD-46A9-8540-614E4B1C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864-0A88-428A-8AB1-507D1826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CA6-262A-45C5-8116-F9634109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FBB-DFB5-4D8E-A3AF-B6E22E8E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544-4A04-49E4-BE0B-CA6916E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507-F84A-4AFF-B1B5-3592A13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AF9-7561-4F87-B27A-6D18082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283-BBA5-4D66-B3D1-0302642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665-EFEC-456D-B992-DBE29EE8E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84BE-58E5-4A5A-8BC3-DDCBBF83F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Liceu" TargetMode="External"/><Relationship Id="rId3" Type="http://schemas.openxmlformats.org/officeDocument/2006/relationships/hyperlink" Target="http://en.wikipedia.org/wiki/Liceu" TargetMode="External"/><Relationship Id="rId4" Type="http://schemas.openxmlformats.org/officeDocument/2006/relationships/hyperlink" Target="http://en.wikipedia.org/wiki/Liceu" TargetMode="External"/><Relationship Id="rId5" Type="http://schemas.openxmlformats.org/officeDocument/2006/relationships/hyperlink" Target="http://en.wikipedia.org/wiki/Liceu" TargetMode="External"/><Relationship Id="rId6" Type="http://schemas.openxmlformats.org/officeDocument/2006/relationships/hyperlink" Target="http://en.wikipedia.org/wiki/Liceu" TargetMode="External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6676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2514600"/>
            <a:ext cx="5639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BARCELO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Crème Cata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Los ingr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Almidón de ma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le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zumo de li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yemas de h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azúcar bl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52560" y="1981080"/>
            <a:ext cx="327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5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3535200"/>
            <a:ext cx="4267080" cy="332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809880" y="3498840"/>
            <a:ext cx="5334120" cy="3359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3516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71800" y="2743200"/>
            <a:ext cx="322884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59520" y="0"/>
            <a:ext cx="308448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7692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ntoni Ga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Modern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6765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Joan M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urre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1911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blo Pic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Cub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ersonas Famosas de Barce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oper Black"/>
              </a:rPr>
              <a:t>Lugares De Gau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33548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91320" y="9144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352680" y="2209680"/>
            <a:ext cx="2509920" cy="381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791320" y="3263760"/>
            <a:ext cx="3593880" cy="359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066680"/>
            <a:ext cx="472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494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94aa"/>
                </a:solidFill>
                <a:latin typeface="Cooper Black"/>
              </a:rPr>
              <a:t>La Casa M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494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94aa"/>
                </a:solidFill>
                <a:latin typeface="Cooper Black"/>
              </a:rPr>
              <a:t>La Sagrada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494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94aa"/>
                </a:solidFill>
                <a:latin typeface="Cooper Black"/>
              </a:rPr>
              <a:t>Park Gu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Arte De Joan M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2846520" cy="271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13704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334120" y="3692520"/>
            <a:ext cx="3809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Arte de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112840" cy="334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53200" y="762120"/>
            <a:ext cx="1990800" cy="26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76720" y="914400"/>
            <a:ext cx="268452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828800" y="3962520"/>
            <a:ext cx="234936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603680" y="4213080"/>
            <a:ext cx="45403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La Ramb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893960" cy="252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2327040" cy="220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324480" y="1371600"/>
            <a:ext cx="206064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3505320" cy="24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09480" y="3860640"/>
            <a:ext cx="3992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El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170160" cy="236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325296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05520" y="914400"/>
            <a:ext cx="3720960" cy="288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Gran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3"/>
              </a:rPr>
              <a:t> 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4"/>
              </a:rPr>
              <a:t>Teatre 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5"/>
              </a:rPr>
              <a:t>del 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6"/>
              </a:rPr>
              <a:t>Lic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4648320" y="1219320"/>
            <a:ext cx="3822480" cy="2671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4876920" y="4038480"/>
            <a:ext cx="3423960" cy="2613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28600" y="1828800"/>
            <a:ext cx="2790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54:46Z</dcterms:created>
  <dc:creator>Matthew Russell</dc:creator>
  <dc:description/>
  <dc:language>en-US</dc:language>
  <cp:lastModifiedBy>Matthew Russell</cp:lastModifiedBy>
  <dcterms:modified xsi:type="dcterms:W3CDTF">2008-03-11T11:55:31Z</dcterms:modified>
  <cp:revision>5</cp:revision>
  <dc:subject/>
  <dc:title>PowerPoint Presentation</dc:title>
</cp:coreProperties>
</file>